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4CFA6-17CC-4062-BD5F-1EDCD633D8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66D65-460C-43C6-9238-806118FD9005}" type="slidenum"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FB3C8-712B-490F-A176-04BCCFBD256C}" type="slidenum">
              <a:rPr b="0" lang="en-US" sz="12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F2E8-4862-487D-8972-D0CD91C30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EBAA-AFBD-48B6-94BC-462BACC68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2477-DAF6-4FB1-8EFD-60790D6F1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6B9D-470E-405E-A6B9-76D4E25B5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EB3CD-75F6-4A88-9B22-B8FA66DF3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4D617-88A4-4A73-8243-836005B43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242A7-133E-47FE-B1E1-306EC01F6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27061-BB71-4A14-8785-75D02F57D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6CE46-485A-4A8F-80B8-BD11CB760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AB9D1-8395-4E1E-8DEC-9576B608D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374D6-5407-4C21-8A2F-2C4D3876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D881-E998-4101-9A08-616ECBA2F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269DD-A9DF-4739-A647-863332AE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59F03-AE74-4F2A-A24B-2F98E0AC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8EFDB-5774-4E96-915A-15514F73C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C767A-2910-46E6-9472-CEADC25CC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38884-8D46-401F-934C-5BBDB1CDF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284CD-EDDC-496D-ADB9-4D133CE87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2F62D-B101-4A39-AE76-415843F7F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1442B-9B63-4FE9-B019-933FFECCE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73056-8B30-44B9-866B-5569A49FC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DE015-AE36-49A2-94B3-3448EA887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AD5F-65CC-46B2-BFD1-F8F648068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B451C-4FA9-4ACE-A10D-F1B279596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2F879-CCFD-4888-8284-0AB7955F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BA1B9-2FBB-4B75-A6F3-3D2E05FF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F9482-2401-44E3-9E74-762CC948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AA446-BD6A-4E09-B838-4E68EA18D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52168-6BA3-4ECE-B18B-6BB678041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F9929-14C9-447A-B67A-FA523EA22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039CC-8093-4648-A645-243DB5B7F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E359F-ECBD-4199-82E5-5FA675C91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CF1AD-ADAF-4B2E-BF5A-F5266B563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2A16-8F1C-4A25-83AC-F66568A8C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746AB-7797-4CB8-9984-91C331B52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41A9C-79A0-442B-9D4C-CB45431B1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1B04B-799B-4281-B76F-597E6E3B0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959D0-5A26-4B09-88E7-5EC2CFC9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8B6A6-4610-4252-856C-4445D637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09D34-7AB7-4829-86A1-002D298C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8A03A-71AC-4C7A-B51A-A35BD4E28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16166-5A80-4B0F-A7A5-488338F2A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F4B59-1C91-4D4F-9E43-74116E992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F9741-F173-4E5C-AE1B-92099661F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D38A-3254-4BD8-A908-8F621E921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B4BD3-8B51-4150-ABDC-512689D79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A1363-7BA0-42DD-8788-AE2F1B49C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16F95-D73B-4E85-8A90-0D696D8FD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9F859-6F87-497F-B23E-3AB6A1630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DFD01-4737-426A-AED2-C5F00F858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A523E-4AA8-4C22-86DF-47391FF4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2772A-B336-4937-AE1B-16D72E3A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3E1B7-0033-4FC8-A4EF-E07B3B4E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E5EF0-0C20-45A3-B39D-6843ED052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0F4B9-6E91-4AB9-9BDD-B3E128ADE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8666-D4F9-450C-90B3-E02A51DD3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ED48A-EDF6-42B6-B7FE-0BDFB9ABF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ECCB7D-3FB5-48AF-AA65-7DF2E6B77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D05BF-9E46-4E87-BA29-E183122D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E81392-888C-4D14-9821-936C6090F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A8B3A-2107-41A6-97D5-376FA903E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DF694-8DFA-4523-9622-E346C3F11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F6772-7207-4BAF-8F13-CCF1A9626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32EA9-8972-414D-9599-FA892E02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EF82D-3013-4278-A5BB-02170FF4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754B5-48C7-4A00-828F-5C0F78AD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4DCE-893F-402A-857C-EF8D549F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C9EE6-5D24-4BBF-B071-BAFE88934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B5031-1245-4262-9D23-AB1C18D52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60793-6F96-4ECE-82BA-DA282ABD2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1BFE7-7975-49E5-81B4-80BBB880D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E7D6E6-98A3-4E74-A91E-F98EFA72E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AF3B8-3C4B-4A6F-B578-3D2AAF5F5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58800-A2ED-4190-8B97-494B37650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1CE98-516C-4C92-BA47-294B5056F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B252B-2873-458F-A78F-E79082FB3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225E6C-AD4B-4D43-83B9-80EBE60E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0D3D-318A-4781-A4AB-88B7AF0D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EE3138-53C5-473E-9351-094D186B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6073E-6429-4112-9932-1C604944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6B2498-467D-4353-A47C-9E3B2447B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14B8E-E9AE-427D-A833-710E80F3B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8B05F5-2E7C-4705-AC44-B3A4768AA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DE4A89-D26A-43B0-82A8-E5AF3AB0D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E1016F-EBFA-4DF6-AB86-0E5935DEF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727A4F-5EF6-42EE-AD89-C0092D9D5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51ECE-16E7-489E-AB17-4AE77ABFB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64FF95-1E92-482F-862E-2A8B50852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9117-DA01-4F8B-BCA2-A1C4C077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F474C5-7936-4714-BF56-A84353E2B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E35CA8-39CE-44EF-9A6E-9162F559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16ECF2-DE97-4E99-ABE4-5279CEBE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A3624-1C3F-44FE-883C-757CC39A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9A91A9-C1EC-444D-B5C4-789075FD1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D9FBFD-87D3-485D-B028-36F07D0A5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D03FB1-5D67-494D-816A-9102DD6BD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0034B-B9DB-41B6-9C3F-8CC349CEF641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335A8-C593-4CD2-B626-69FB40162798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hte verbindingslijn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Rechte verbindingslijn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Gelijkbenige driehoe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hthoek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Rechthoek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Rechthoek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Rechthoek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6BD14-FAE4-4F74-BFB2-3C0FFBE2C950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4BDEB-2317-4740-9BCC-514DD1B5EAA0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hthoek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Rechthoek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118A2-5E6B-45E3-90F5-A0622527E431}" type="datetime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071CC-78AB-4B6E-8C73-3B6CA6B4FD02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hte verbindingslijn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Rechte verbindingslijn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Gelijkbenige driehoe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Gelijkbenige driehoek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A4432-0A5C-4689-8F50-86B692A0F101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217F8-5F14-4846-8C5C-84B2A7AE2788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hte verbindingslijn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Gelijkbenige driehoek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23404-F18F-4A32-9223-9AEE7DF11579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952F-321F-411E-A06B-EF624A210534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hte verbindingslijn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Rechte verbindingslijn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Gelijkbenige driehoek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96253-2B3F-4E95-A2EF-9CC673A30CD5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D5FA4-267B-4AAE-AE65-42C370E5A956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hte verbindingslijn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Gelijkbenige driehoek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Rechthoek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55B7D-013F-47CF-8625-26478A51A8AC}" type="datetime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0D565-054C-4983-9B8A-7B7EE63D9594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hte verbindingslijn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Gelijkbenige driehoek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Rechte verbindingslijn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34DD1-723D-4BE5-8C79-0C40E6182FD1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6864-D8D1-43BF-BA98-6EF1F8A36623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Welcome to the technical partner meeting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64653"/>
                </a:solidFill>
                <a:latin typeface="Bookman Old Style"/>
              </a:rPr>
              <a:t>N3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1" name="Picture 5" descr="D:\Ilri\various\NBDC_LogoBigSize_PV.jpg"/>
          <p:cNvPicPr/>
          <p:nvPr/>
        </p:nvPicPr>
        <p:blipFill>
          <a:blip r:embed="rId1"/>
          <a:stretch/>
        </p:blipFill>
        <p:spPr>
          <a:xfrm>
            <a:off x="838080" y="260280"/>
            <a:ext cx="7550280" cy="30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Objective of the meeting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64" name="Picture 5" descr="D:\Ilri\various\NBDC_LogoBigSize_PV.jpg"/>
          <p:cNvPicPr/>
          <p:nvPr/>
        </p:nvPicPr>
        <p:blipFill>
          <a:blip r:embed="rId1"/>
          <a:stretch/>
        </p:blipFill>
        <p:spPr>
          <a:xfrm>
            <a:off x="838080" y="260280"/>
            <a:ext cx="7550280" cy="30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64653"/>
                </a:solidFill>
                <a:latin typeface="Bookman Old Style"/>
              </a:rPr>
              <a:t>Objective of this meeting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o understand how your institute works with rainwater management and disseminates knowledge to extension services/ ngo’s and to farmers/communit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o reach a common understanding of what rainwater management 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o identify a criteria for a suitable and applicable decision making support too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Tijdelijke aanduiding voor dianumm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C0E73-BCD3-43A8-A9A4-FDB24019E5EA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8" name="Picture 5" descr=""/>
          <p:cNvPicPr/>
          <p:nvPr/>
        </p:nvPicPr>
        <p:blipFill>
          <a:blip r:embed="rId1"/>
          <a:stretch/>
        </p:blipFill>
        <p:spPr>
          <a:xfrm>
            <a:off x="7380360" y="6157800"/>
            <a:ext cx="1763640" cy="7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64653"/>
                </a:solidFill>
                <a:latin typeface="Bookman Old Style"/>
              </a:rPr>
              <a:t>Principle of collaboration with N3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You are the end – user of the N3 too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herefore 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he tools has to suits to your need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riniciples 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Your knowlege is equally important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Your opinion matter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t only success stories allow us to lear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Weaknesses are opportunit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=&gt; Develop </a:t>
            </a:r>
            <a:r>
              <a:rPr b="1" lang="nl-NL" sz="2600" spc="-1" strike="noStrike">
                <a:solidFill>
                  <a:srgbClr val="000000"/>
                </a:solidFill>
                <a:latin typeface="Gill Sans MT"/>
              </a:rPr>
              <a:t>together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 decison making support too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Tijdelijke aanduiding voor dianumm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D18AF-767E-4245-8A5C-67D819867309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2" name="Picture 5" descr=""/>
          <p:cNvPicPr/>
          <p:nvPr/>
        </p:nvPicPr>
        <p:blipFill>
          <a:blip r:embed="rId1"/>
          <a:stretch/>
        </p:blipFill>
        <p:spPr>
          <a:xfrm>
            <a:off x="7380360" y="6157800"/>
            <a:ext cx="1763640" cy="7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64653"/>
                </a:solidFill>
                <a:latin typeface="Bookman Old Style"/>
              </a:rPr>
              <a:t>How are we going to do in this meeting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Your presenta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scuss the different practices and intervention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o come up with our definition of rainwater managemen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evelop a criteria list for a decision making support too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464653"/>
                </a:solidFill>
                <a:latin typeface="Gill Sans MT"/>
              </a:rPr>
              <a:t>Identify what is needed to develop a tool that fits expectation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375" name="Tijdelijke aanduiding voor voettekst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Tijdelijke aanduiding voor dianumm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CE7FF-19AB-4254-91F8-7FCAC02696A4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64653"/>
                </a:solidFill>
                <a:latin typeface="Bookman Old Style"/>
              </a:rPr>
              <a:t>Day 1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78" name="Tijdelijke aanduiding voor inhoud 5" descr=""/>
          <p:cNvPicPr/>
          <p:nvPr/>
        </p:nvPicPr>
        <p:blipFill>
          <a:blip r:embed="rId1"/>
          <a:stretch/>
        </p:blipFill>
        <p:spPr>
          <a:xfrm>
            <a:off x="390600" y="1438200"/>
            <a:ext cx="8235720" cy="4919760"/>
          </a:xfrm>
          <a:prstGeom prst="rect">
            <a:avLst/>
          </a:prstGeom>
          <a:ln w="0">
            <a:noFill/>
          </a:ln>
        </p:spPr>
      </p:pic>
      <p:sp>
        <p:nvSpPr>
          <p:cNvPr id="379" name="Tijdelijke aanduiding voor voettekst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Tijdelijke aanduiding voor dianumm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118B7-5AA2-4791-9A3F-78D71BA0E8F5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64653"/>
                </a:solidFill>
                <a:latin typeface="Bookman Old Style"/>
              </a:rPr>
              <a:t>Day 2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2" name="Tijdelijke aanduiding voor voettekst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Tijdelijke aanduiding voor dianumm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F3A35-6189-43B5-B8B0-7FA1ECCE16D7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468360" y="1557360"/>
          <a:ext cx="8229600" cy="2243160"/>
        </p:xfrm>
        <a:graphic>
          <a:graphicData uri="http://schemas.openxmlformats.org/drawingml/2006/table">
            <a:tbl>
              <a:tblPr/>
              <a:tblGrid>
                <a:gridCol w="2450880"/>
                <a:gridCol w="5778720"/>
              </a:tblGrid>
              <a:tr h="28080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8.30-9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Coff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28008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9.00-10.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ioritizing practi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8080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10.30 – 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off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8116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11 -12.3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rainstorming about criteria for a decision support to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8008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12.30-13.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Lun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56016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13.30-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pen discus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Evaluation wrap 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8008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15-15.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off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8T07:35:18Z</dcterms:created>
  <dc:creator>Catherine -user</dc:creator>
  <dc:description/>
  <dc:language>en-US</dc:language>
  <cp:lastModifiedBy>Catherine -user</cp:lastModifiedBy>
  <dcterms:modified xsi:type="dcterms:W3CDTF">2011-03-28T07:18:53Z</dcterms:modified>
  <cp:revision>20</cp:revision>
  <dc:subject/>
  <dc:title>PowerPoint-presentatie</dc:title>
</cp:coreProperties>
</file>